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14C2-FE55-42DB-91C7-DF4DBF73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AE6-AF42-46CB-891C-B38FC2A65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811-0528-4090-AF8D-DF965E48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C7D-E13A-4ECA-95DF-13CB467DA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DA4-90D5-4F41-B0F2-B87B0CFD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FE4-8806-4104-9CBA-D964E4A4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08E-519D-4D10-B48F-1598A134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9EF-A7A6-49F5-8F02-B21A076F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40D0-2DFC-4307-956E-152ABDA1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E02-9B36-4306-A0F3-2E1B3E81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47F-776F-497C-B3C3-8E78D42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C41-12BB-4282-8738-E0A2758C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E18-DE52-414A-9C41-A1F929C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5F6-A1E1-4E7B-A5C5-E908E1A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9D6-1B24-4044-BC64-623BBAF2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66B-2888-419F-BE2C-D638CB01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17-2AFC-4CD6-9DA6-51A512C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6B7-6CA7-418C-B42B-4A6D317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8FD-234B-4E19-B109-FB910E7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EDA-FCE3-4D53-8BF1-E67AC26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35D-C057-4194-BAEC-665081A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82FB-F73A-4BE1-A0FD-829A8B0CD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9.jpeg"/><Relationship Id="rId13" Type="http://schemas.openxmlformats.org/officeDocument/2006/relationships/image" Target="../media/image3.png"/><Relationship Id="rId14" Type="http://schemas.openxmlformats.org/officeDocument/2006/relationships/image" Target="../media/image11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3.png"/><Relationship Id="rId10" Type="http://schemas.openxmlformats.org/officeDocument/2006/relationships/image" Target="../media/image9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2.jpeg"/><Relationship Id="rId10" Type="http://schemas.openxmlformats.org/officeDocument/2006/relationships/image" Target="../media/image18.jpeg"/><Relationship Id="rId11" Type="http://schemas.openxmlformats.org/officeDocument/2006/relationships/image" Target="../media/image8.jpeg"/><Relationship Id="rId12" Type="http://schemas.openxmlformats.org/officeDocument/2006/relationships/image" Target="../media/image10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image" Target="../media/image13.png"/><Relationship Id="rId10" Type="http://schemas.openxmlformats.org/officeDocument/2006/relationships/image" Target="../media/image6.jpeg"/><Relationship Id="rId11" Type="http://schemas.openxmlformats.org/officeDocument/2006/relationships/image" Target="../media/image15.jpeg"/><Relationship Id="rId12" Type="http://schemas.openxmlformats.org/officeDocument/2006/relationships/image" Target="../media/image8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image" Target="../media/image19.png"/><Relationship Id="rId9" Type="http://schemas.openxmlformats.org/officeDocument/2006/relationships/image" Target="../media/image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8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view photos"/>
          <p:cNvPicPr/>
          <p:nvPr/>
        </p:nvPicPr>
        <p:blipFill>
          <a:blip r:embed="rId4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2">
            <a:hlinkClick r:id="rId5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3">
            <a:hlinkClick r:id="rId6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info-side"/>
          <p:cNvPicPr/>
          <p:nvPr/>
        </p:nvPicPr>
        <p:blipFill>
          <a:blip r:embed="rId7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181480"/>
            <a:ext cx="152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>
            <a:hlinkClick r:id="rId11" action="ppaction://hlinksldjump"/>
          </p:cNvPr>
          <p:cNvSpPr/>
          <p:nvPr/>
        </p:nvSpPr>
        <p:spPr>
          <a:xfrm>
            <a:off x="2895480" y="7621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joan%20of%20ac" descr=""/>
          <p:cNvPicPr/>
          <p:nvPr/>
        </p:nvPicPr>
        <p:blipFill>
          <a:blip r:embed="rId13"/>
          <a:stretch/>
        </p:blipFill>
        <p:spPr>
          <a:xfrm>
            <a:off x="152280" y="838080"/>
            <a:ext cx="19051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1447920"/>
            <a:ext cx="6858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"When I was thirteen years old, I had a Voice from God to help me govern my conduct. And the first time I was very fearful. And came this Voice, about the hour of noon, in the summer-time, in my father's garden; I had not fasted on the eve preceding that day.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666880"/>
            <a:ext cx="4648320" cy="838080"/>
            <a:chOff x="3124080" y="2666880"/>
            <a:chExt cx="4648320" cy="838080"/>
          </a:xfrm>
        </p:grpSpPr>
        <p:pic>
          <p:nvPicPr>
            <p:cNvPr id="72" name="Robert%20de%20Baudricourt" descr=""/>
            <p:cNvPicPr/>
            <p:nvPr/>
          </p:nvPicPr>
          <p:blipFill>
            <a:blip r:embed="rId14"/>
            <a:srcRect l="0" t="10526" r="10587" b="0"/>
            <a:stretch/>
          </p:blipFill>
          <p:spPr>
            <a:xfrm>
              <a:off x="3124080" y="2666880"/>
              <a:ext cx="685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62160" y="2819160"/>
              <a:ext cx="381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You should come visit me. We can work toge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048120" y="3581280"/>
            <a:ext cx="4723920" cy="1066680"/>
            <a:chOff x="3048120" y="3581280"/>
            <a:chExt cx="4723920" cy="1066680"/>
          </a:xfrm>
        </p:grpSpPr>
        <p:pic>
          <p:nvPicPr>
            <p:cNvPr id="75" name="joan%20of%20ac" descr=""/>
            <p:cNvPicPr/>
            <p:nvPr/>
          </p:nvPicPr>
          <p:blipFill>
            <a:blip r:embed="rId15"/>
            <a:srcRect l="26535" t="26476" r="20630" b="20610"/>
            <a:stretch/>
          </p:blipFill>
          <p:spPr>
            <a:xfrm>
              <a:off x="3048120" y="35812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190760" y="38098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come as soon as I can and we can fight together and I will tell you all I know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8120" y="4724280"/>
            <a:ext cx="4647600" cy="976320"/>
            <a:chOff x="3048120" y="4724280"/>
            <a:chExt cx="4647600" cy="976320"/>
          </a:xfrm>
        </p:grpSpPr>
        <p:pic>
          <p:nvPicPr>
            <p:cNvPr id="79" name="Robert%20de%20Baudricourt" descr=""/>
            <p:cNvPicPr/>
            <p:nvPr/>
          </p:nvPicPr>
          <p:blipFill>
            <a:blip r:embed="rId16"/>
            <a:srcRect l="0" t="10526" r="10587" b="0"/>
            <a:stretch/>
          </p:blipFill>
          <p:spPr>
            <a:xfrm>
              <a:off x="3048120" y="4724280"/>
              <a:ext cx="6854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85840" y="4876560"/>
              <a:ext cx="380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  <a:ea typeface="Times New Roman"/>
                </a:rPr>
                <a:t>Robert de Baudricourt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I am very interesting in what you have to tell. I will be waiting for you 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048120" y="5638680"/>
            <a:ext cx="4723920" cy="1066680"/>
            <a:chOff x="3048120" y="5638680"/>
            <a:chExt cx="4723920" cy="1066680"/>
          </a:xfrm>
        </p:grpSpPr>
        <p:pic>
          <p:nvPicPr>
            <p:cNvPr id="82" name="joan%20of%20ac" descr=""/>
            <p:cNvPicPr/>
            <p:nvPr/>
          </p:nvPicPr>
          <p:blipFill>
            <a:blip r:embed="rId17"/>
            <a:srcRect l="26535" t="26476" r="20630" b="20610"/>
            <a:stretch/>
          </p:blipFill>
          <p:spPr>
            <a:xfrm>
              <a:off x="3048120" y="5638680"/>
              <a:ext cx="7840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0760" y="5867280"/>
              <a:ext cx="35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have so much to tell from the voices I am hearing. I think that I can help you greatly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2286000" y="1447920"/>
            <a:ext cx="6324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 in May 1428 I have been given the divine message to seek audience with Charles de Ponthieu the relatively weak leader of the French, so I have gone out today to find 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276720" y="259092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joan%20of%20ac" descr=""/>
          <p:cNvPicPr/>
          <p:nvPr/>
        </p:nvPicPr>
        <p:blipFill>
          <a:blip r:embed="rId9"/>
          <a:stretch/>
        </p:blipFill>
        <p:spPr>
          <a:xfrm>
            <a:off x="152280" y="762120"/>
            <a:ext cx="19051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895480" y="5562720"/>
            <a:ext cx="4876920" cy="1564920"/>
            <a:chOff x="2895480" y="5562720"/>
            <a:chExt cx="4876920" cy="1564920"/>
          </a:xfrm>
        </p:grpSpPr>
        <p:pic>
          <p:nvPicPr>
            <p:cNvPr id="103" name="Facebook%20icons" descr=""/>
            <p:cNvPicPr/>
            <p:nvPr/>
          </p:nvPicPr>
          <p:blipFill>
            <a:blip r:embed="rId10"/>
            <a:srcRect l="78003" t="68685" r="2003" b="0"/>
            <a:stretch/>
          </p:blipFill>
          <p:spPr>
            <a:xfrm>
              <a:off x="2895480" y="5638680"/>
              <a:ext cx="6094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57600" y="5562720"/>
              <a:ext cx="4114800" cy="15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 now friends with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, Jeanne Arc, Jacquemin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and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Pierre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06" name="Picture 6" descr="info-side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AutoShape 24"/>
          <p:cNvSpPr/>
          <p:nvPr/>
        </p:nvSpPr>
        <p:spPr>
          <a:xfrm>
            <a:off x="228600" y="37339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228600" y="350532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0400" y="2590920"/>
            <a:ext cx="4343400" cy="990720"/>
            <a:chOff x="3200400" y="2590920"/>
            <a:chExt cx="4343400" cy="990720"/>
          </a:xfrm>
        </p:grpSpPr>
        <p:pic>
          <p:nvPicPr>
            <p:cNvPr id="115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3200400" y="2590920"/>
              <a:ext cx="795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2590920"/>
              <a:ext cx="34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Charles de Ponthieu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I will be awaiting your arival. We will unite the French and work togeth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124080" y="3886200"/>
            <a:ext cx="4724640" cy="1539360"/>
            <a:chOff x="3124080" y="3886200"/>
            <a:chExt cx="4724640" cy="1539360"/>
          </a:xfrm>
        </p:grpSpPr>
        <p:pic>
          <p:nvPicPr>
            <p:cNvPr id="119" name="joan%20of%20ac" descr=""/>
            <p:cNvPicPr/>
            <p:nvPr/>
          </p:nvPicPr>
          <p:blipFill>
            <a:blip r:embed="rId13"/>
            <a:srcRect l="26535" t="26476" r="20630" b="20610"/>
            <a:stretch/>
          </p:blipFill>
          <p:spPr>
            <a:xfrm>
              <a:off x="3124080" y="3886200"/>
              <a:ext cx="784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267080" y="4114800"/>
              <a:ext cx="3581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 am leaving soon to come visit and we will work together. I have been told to come and see you and that is my next mission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JoanOfArc" descr=""/>
          <p:cNvPicPr/>
          <p:nvPr/>
        </p:nvPicPr>
        <p:blipFill>
          <a:blip r:embed="rId9"/>
          <a:stretch/>
        </p:blipFill>
        <p:spPr>
          <a:xfrm>
            <a:off x="228600" y="762120"/>
            <a:ext cx="178740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JoanOfArc" descr=""/>
          <p:cNvPicPr/>
          <p:nvPr/>
        </p:nvPicPr>
        <p:blipFill>
          <a:blip r:embed="rId10"/>
          <a:stretch/>
        </p:blipFill>
        <p:spPr>
          <a:xfrm>
            <a:off x="4191120" y="449568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9000" y="41148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dded a new profile picture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6880" y="5181480"/>
            <a:ext cx="4038480" cy="1185840"/>
            <a:chOff x="2666880" y="5181480"/>
            <a:chExt cx="4038480" cy="1185840"/>
          </a:xfrm>
        </p:grpSpPr>
        <p:grpSp>
          <p:nvGrpSpPr>
            <p:cNvPr id="140" name=""/>
            <p:cNvGrpSpPr/>
            <p:nvPr/>
          </p:nvGrpSpPr>
          <p:grpSpPr>
            <a:xfrm>
              <a:off x="2666880" y="5181480"/>
              <a:ext cx="838080" cy="1185840"/>
              <a:chOff x="2666880" y="5181480"/>
              <a:chExt cx="838080" cy="118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85680" y="6030360"/>
                <a:ext cx="18432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66880" y="5181480"/>
                <a:ext cx="838080" cy="77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733560" y="5333760"/>
              <a:ext cx="297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Isabelle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beautiful picture honey. Good luck in the war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33920" y="5867280"/>
            <a:ext cx="4114800" cy="838080"/>
            <a:chOff x="3733920" y="5867280"/>
            <a:chExt cx="4114800" cy="838080"/>
          </a:xfrm>
        </p:grpSpPr>
        <p:pic>
          <p:nvPicPr>
            <p:cNvPr id="145" name="JoanOfArc" descr=""/>
            <p:cNvPicPr/>
            <p:nvPr/>
          </p:nvPicPr>
          <p:blipFill>
            <a:blip r:embed="rId12"/>
            <a:srcRect l="6632" t="0" r="20076" b="26665"/>
            <a:stretch/>
          </p:blipFill>
          <p:spPr>
            <a:xfrm>
              <a:off x="3733920" y="5867280"/>
              <a:ext cx="614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800960" y="6019560"/>
              <a:ext cx="304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 </a:t>
              </a:r>
              <a:r>
                <a:rPr b="0" lang="en-US" sz="12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</a:t>
              </a:r>
              <a:r>
                <a:rPr b="0" lang="en-US" sz="12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</a:rPr>
                <a:t>Thanks a lot mom. I’ll miss you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48" name="Picture 6" descr="info-side"/>
            <p:cNvPicPr/>
            <p:nvPr/>
          </p:nvPicPr>
          <p:blipFill>
            <a:blip r:embed="rId13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33720" y="1447920"/>
            <a:ext cx="6781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ildren say that people are hung sometimes for speaking the truth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enry%20Vi" descr=""/>
          <p:cNvPicPr/>
          <p:nvPr/>
        </p:nvPicPr>
        <p:blipFill>
          <a:blip r:embed="rId14"/>
          <a:stretch/>
        </p:blipFill>
        <p:spPr>
          <a:xfrm>
            <a:off x="2362320" y="2438280"/>
            <a:ext cx="631800" cy="851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25909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Henry V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You spoke the truth but because of heresy you will still be burned at the 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joan%20of%20arc%20sword" descr=""/>
          <p:cNvPicPr/>
          <p:nvPr/>
        </p:nvPicPr>
        <p:blipFill>
          <a:blip r:embed="rId15"/>
          <a:stretch/>
        </p:blipFill>
        <p:spPr>
          <a:xfrm>
            <a:off x="3048120" y="3200400"/>
            <a:ext cx="74916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3352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I did what I knew was right and I don’t care what others feel. I told the truth and that was the best I could 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177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" name="JoanOfArc" descr=""/>
          <p:cNvPicPr/>
          <p:nvPr/>
        </p:nvPicPr>
        <p:blipFill>
          <a:blip r:embed="rId10"/>
          <a:stretch/>
        </p:blipFill>
        <p:spPr>
          <a:xfrm>
            <a:off x="0" y="838080"/>
            <a:ext cx="20131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200400" y="2514600"/>
            <a:ext cx="4495680" cy="1980720"/>
            <a:chOff x="3200400" y="2514600"/>
            <a:chExt cx="4495680" cy="1980720"/>
          </a:xfrm>
        </p:grpSpPr>
        <p:grpSp>
          <p:nvGrpSpPr>
            <p:cNvPr id="185" name=""/>
            <p:cNvGrpSpPr/>
            <p:nvPr/>
          </p:nvGrpSpPr>
          <p:grpSpPr>
            <a:xfrm>
              <a:off x="3200400" y="2514600"/>
              <a:ext cx="4343400" cy="1066680"/>
              <a:chOff x="3200400" y="2514600"/>
              <a:chExt cx="4343400" cy="1066680"/>
            </a:xfrm>
          </p:grpSpPr>
          <p:pic>
            <p:nvPicPr>
              <p:cNvPr id="186" name="Isabelle%20Arc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00400" y="2514600"/>
                <a:ext cx="9288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19720" y="2666880"/>
                <a:ext cx="3124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 u="sng">
                    <a:solidFill>
                      <a:srgbClr val="3333cc"/>
                    </a:solidFill>
                    <a:uFillTx/>
                    <a:latin typeface="Century Gothic"/>
                  </a:rPr>
                  <a:t>Isabelle Arc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entury Gothic"/>
                  </a:rPr>
                  <a:t>Good luck Joan! You will do great. We all believe in you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ean%20Of%20Arc" descr=""/>
            <p:cNvPicPr/>
            <p:nvPr/>
          </p:nvPicPr>
          <p:blipFill>
            <a:blip r:embed="rId12"/>
            <a:stretch/>
          </p:blipFill>
          <p:spPr>
            <a:xfrm>
              <a:off x="3200400" y="3657240"/>
              <a:ext cx="9907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38098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eanne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Good luck sis. I’ll miss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276720" y="5715000"/>
            <a:ext cx="4724280" cy="914400"/>
            <a:chOff x="3276720" y="5715000"/>
            <a:chExt cx="4724280" cy="914400"/>
          </a:xfrm>
        </p:grpSpPr>
        <p:pic>
          <p:nvPicPr>
            <p:cNvPr id="191" name="JoanOfArc" descr=""/>
            <p:cNvPicPr/>
            <p:nvPr/>
          </p:nvPicPr>
          <p:blipFill>
            <a:blip r:embed="rId13"/>
            <a:stretch/>
          </p:blipFill>
          <p:spPr>
            <a:xfrm>
              <a:off x="3276720" y="5715000"/>
              <a:ext cx="898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24640" y="579132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oan Of Arc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anks all! I will miss you. Keep in touch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1523880"/>
            <a:ext cx="6324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 am not afraid… I was born to do this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ope%20symbol" descr=""/>
          <p:cNvPicPr/>
          <p:nvPr/>
        </p:nvPicPr>
        <p:blipFill>
          <a:blip r:embed="rId14"/>
          <a:stretch/>
        </p:blipFill>
        <p:spPr>
          <a:xfrm>
            <a:off x="3200400" y="4648320"/>
            <a:ext cx="898560" cy="92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8320" y="4724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The Pope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You will do a great job. Make us prou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3429000"/>
            <a:ext cx="2666880" cy="2719440"/>
            <a:chOff x="0" y="3429000"/>
            <a:chExt cx="2666880" cy="2719440"/>
          </a:xfrm>
        </p:grpSpPr>
        <p:pic>
          <p:nvPicPr>
            <p:cNvPr id="212" name="Picture 6" descr="info-side"/>
            <p:cNvPicPr/>
            <p:nvPr/>
          </p:nvPicPr>
          <p:blipFill>
            <a:blip r:embed="rId9"/>
            <a:stretch/>
          </p:blipFill>
          <p:spPr>
            <a:xfrm>
              <a:off x="0" y="3962520"/>
              <a:ext cx="257184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9"/>
            <p:cNvSpPr/>
            <p:nvPr/>
          </p:nvSpPr>
          <p:spPr>
            <a:xfrm>
              <a:off x="0" y="4572000"/>
              <a:ext cx="266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uary 6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1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"/>
            <p:cNvSpPr/>
            <p:nvPr/>
          </p:nvSpPr>
          <p:spPr>
            <a:xfrm>
              <a:off x="0" y="41148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24"/>
            <p:cNvSpPr/>
            <p:nvPr/>
          </p:nvSpPr>
          <p:spPr>
            <a:xfrm>
              <a:off x="152280" y="36576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5"/>
            <p:cNvSpPr/>
            <p:nvPr/>
          </p:nvSpPr>
          <p:spPr>
            <a:xfrm>
              <a:off x="152280" y="3429000"/>
              <a:ext cx="1676520" cy="228600"/>
            </a:xfrm>
            <a:custGeom>
              <a:avLst/>
              <a:gdLst>
                <a:gd name="textAreaLeft" fmla="*/ 14760 w 1676520"/>
                <a:gd name="textAreaRight" fmla="*/ 1661760 w 16765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8196" y="21600"/>
                  </a:lnTo>
                  <a:lnTo>
                    <a:pt x="0" y="21600"/>
                  </a:lnTo>
                  <a:close/>
                </a:path>
                <a:path fill="lightenLess" w="158196" h="21600">
                  <a:moveTo>
                    <a:pt x="0" y="0"/>
                  </a:moveTo>
                  <a:lnTo>
                    <a:pt x="158196" y="0"/>
                  </a:lnTo>
                  <a:lnTo>
                    <a:pt x="156796" y="1400"/>
                  </a:lnTo>
                  <a:lnTo>
                    <a:pt x="1400" y="1400"/>
                  </a:lnTo>
                  <a:close/>
                </a:path>
                <a:path fill="darken" w="158196" h="21600">
                  <a:moveTo>
                    <a:pt x="158196" y="0"/>
                  </a:moveTo>
                  <a:lnTo>
                    <a:pt x="158196" y="21600"/>
                  </a:lnTo>
                  <a:lnTo>
                    <a:pt x="156796" y="20200"/>
                  </a:lnTo>
                  <a:lnTo>
                    <a:pt x="156796" y="1400"/>
                  </a:lnTo>
                  <a:close/>
                </a:path>
                <a:path fill="darkenLess" w="158196" h="21600">
                  <a:moveTo>
                    <a:pt x="1581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56796" y="20200"/>
                  </a:lnTo>
                  <a:close/>
                </a:path>
                <a:path fill="lighten" w="1581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joan%20of%20arc%20sword" descr=""/>
          <p:cNvPicPr/>
          <p:nvPr/>
        </p:nvPicPr>
        <p:blipFill>
          <a:blip r:embed="rId10"/>
          <a:stretch/>
        </p:blipFill>
        <p:spPr>
          <a:xfrm>
            <a:off x="0" y="9144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4"/>
          <p:cNvSpPr/>
          <p:nvPr/>
        </p:nvSpPr>
        <p:spPr>
          <a:xfrm>
            <a:off x="2209680" y="1447920"/>
            <a:ext cx="6934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would rather die than do something which I know to be a sin, or the be against God’s will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Joan of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52680" y="2514600"/>
            <a:ext cx="3962520" cy="1066680"/>
            <a:chOff x="3352680" y="2514600"/>
            <a:chExt cx="3962520" cy="1066680"/>
          </a:xfrm>
        </p:grpSpPr>
        <p:sp>
          <p:nvSpPr>
            <p:cNvPr id="222" name=""/>
            <p:cNvSpPr/>
            <p:nvPr/>
          </p:nvSpPr>
          <p:spPr>
            <a:xfrm>
              <a:off x="4038480" y="2514600"/>
              <a:ext cx="32767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 </a:t>
              </a: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Jacques d’Arc</a:t>
              </a:r>
              <a:r>
                <a:rPr b="0" lang="en-US" sz="1600" spc="-1" strike="noStrike">
                  <a:solidFill>
                    <a:srgbClr val="3333cc"/>
                  </a:solidFill>
                  <a:latin typeface="Century 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You will be missed honey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Jacques%20d'Arc" descr=""/>
            <p:cNvPicPr/>
            <p:nvPr/>
          </p:nvPicPr>
          <p:blipFill>
            <a:blip r:embed="rId11"/>
            <a:stretch/>
          </p:blipFill>
          <p:spPr>
            <a:xfrm>
              <a:off x="3352680" y="2514600"/>
              <a:ext cx="7016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352680" y="3809880"/>
            <a:ext cx="4267440" cy="1066680"/>
            <a:chOff x="3352680" y="3809880"/>
            <a:chExt cx="4267440" cy="1066680"/>
          </a:xfrm>
        </p:grpSpPr>
        <p:pic>
          <p:nvPicPr>
            <p:cNvPr id="225" name="st%20cathering" descr=""/>
            <p:cNvPicPr/>
            <p:nvPr/>
          </p:nvPicPr>
          <p:blipFill>
            <a:blip r:embed="rId12"/>
            <a:stretch/>
          </p:blipFill>
          <p:spPr>
            <a:xfrm>
              <a:off x="3352680" y="3809880"/>
              <a:ext cx="7747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19720" y="388584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3333cc"/>
                  </a:solidFill>
                  <a:uFillTx/>
                  <a:latin typeface="Century Gothic"/>
                </a:rPr>
                <a:t>St. Catherine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 You did what was right. You knew you did young Joan. We all believed in you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022640" y="1438200"/>
            <a:ext cx="44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joan%20of%20arc%20sword" descr=""/>
          <p:cNvPicPr/>
          <p:nvPr/>
        </p:nvPicPr>
        <p:blipFill>
          <a:blip r:embed="rId13"/>
          <a:stretch/>
        </p:blipFill>
        <p:spPr>
          <a:xfrm>
            <a:off x="3276720" y="510552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43400" y="525780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Century Gothic"/>
              </a:rPr>
              <a:t>Joan of Arc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I will miss you all. St. Catherine I believe that I did what was right although it was against God’s will. I did it to help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838080" y="1523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371600" y="182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nuary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4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76520" y="21337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rmremy in a Region of France known as Lorra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666880" y="2666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133720" y="3048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Live the K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2096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ho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486400" y="1371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ight in wars and I have visions from G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410080" y="19810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Relig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01992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spel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40080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nday Ma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324480" y="2895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assion Of Chr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6019920" y="3276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B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4648320" y="3886200"/>
            <a:ext cx="3581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fought in the Hundred Years War, and I have had many visions from God since I was thirteen years ol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38080" y="4114800"/>
            <a:ext cx="3124440" cy="2318400"/>
            <a:chOff x="838080" y="4114800"/>
            <a:chExt cx="3124440" cy="2318400"/>
          </a:xfrm>
        </p:grpSpPr>
        <p:pic>
          <p:nvPicPr>
            <p:cNvPr id="269" name="00" descr=""/>
            <p:cNvPicPr/>
            <p:nvPr/>
          </p:nvPicPr>
          <p:blipFill>
            <a:blip r:embed="rId9"/>
            <a:stretch/>
          </p:blipFill>
          <p:spPr>
            <a:xfrm>
              <a:off x="838080" y="4114800"/>
              <a:ext cx="19670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38080" y="60958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eann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57600" y="4038480"/>
            <a:ext cx="1862280" cy="2242440"/>
            <a:chOff x="3657600" y="4038480"/>
            <a:chExt cx="1862280" cy="2242440"/>
          </a:xfrm>
        </p:grpSpPr>
        <p:pic>
          <p:nvPicPr>
            <p:cNvPr id="272" name="Jacquemin%20Arc" descr=""/>
            <p:cNvPicPr/>
            <p:nvPr/>
          </p:nvPicPr>
          <p:blipFill>
            <a:blip r:embed="rId10"/>
            <a:srcRect l="0" t="14532" r="45552" b="40151"/>
            <a:stretch/>
          </p:blipFill>
          <p:spPr>
            <a:xfrm>
              <a:off x="3657600" y="4038480"/>
              <a:ext cx="1862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657600" y="5943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min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324480" y="3962520"/>
            <a:ext cx="1981440" cy="2896200"/>
            <a:chOff x="6324480" y="3962520"/>
            <a:chExt cx="1981440" cy="2896200"/>
          </a:xfrm>
        </p:grpSpPr>
        <p:pic>
          <p:nvPicPr>
            <p:cNvPr id="275" name="photo%20not%20available" descr=""/>
            <p:cNvPicPr/>
            <p:nvPr/>
          </p:nvPicPr>
          <p:blipFill>
            <a:blip r:embed="rId11"/>
            <a:stretch/>
          </p:blipFill>
          <p:spPr>
            <a:xfrm>
              <a:off x="6324480" y="3962520"/>
              <a:ext cx="190512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400800" y="65214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Pierr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762120"/>
            <a:ext cx="2120760" cy="3298320"/>
            <a:chOff x="1143000" y="762120"/>
            <a:chExt cx="2120760" cy="3298320"/>
          </a:xfrm>
        </p:grpSpPr>
        <p:pic>
          <p:nvPicPr>
            <p:cNvPr id="278" name="Isabelle%20Arc" descr=""/>
            <p:cNvPicPr/>
            <p:nvPr/>
          </p:nvPicPr>
          <p:blipFill>
            <a:blip r:embed="rId12"/>
            <a:stretch/>
          </p:blipFill>
          <p:spPr>
            <a:xfrm>
              <a:off x="1143000" y="762120"/>
              <a:ext cx="2120760" cy="24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47920" y="335268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Isabelle 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mo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486400" y="685800"/>
            <a:ext cx="2895480" cy="3527280"/>
            <a:chOff x="5486400" y="685800"/>
            <a:chExt cx="2895480" cy="3527280"/>
          </a:xfrm>
        </p:grpSpPr>
        <p:pic>
          <p:nvPicPr>
            <p:cNvPr id="281" name="Jacques%20d'Arc" descr=""/>
            <p:cNvPicPr/>
            <p:nvPr/>
          </p:nvPicPr>
          <p:blipFill>
            <a:blip r:embed="rId13"/>
            <a:stretch/>
          </p:blipFill>
          <p:spPr>
            <a:xfrm>
              <a:off x="5486400" y="685800"/>
              <a:ext cx="1828800" cy="27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62720" y="3505320"/>
              <a:ext cx="2819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Jacques d’A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(d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990720"/>
            <a:ext cx="2455920" cy="2927880"/>
            <a:chOff x="380880" y="990720"/>
            <a:chExt cx="2455920" cy="2927880"/>
          </a:xfrm>
        </p:grpSpPr>
        <p:pic>
          <p:nvPicPr>
            <p:cNvPr id="297" name="pope%20symbol" descr=""/>
            <p:cNvPicPr/>
            <p:nvPr/>
          </p:nvPicPr>
          <p:blipFill>
            <a:blip r:embed="rId9"/>
            <a:stretch/>
          </p:blipFill>
          <p:spPr>
            <a:xfrm>
              <a:off x="380880" y="990720"/>
              <a:ext cx="2455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38080" y="3581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The P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914400"/>
            <a:ext cx="2055960" cy="3323880"/>
            <a:chOff x="6324480" y="914400"/>
            <a:chExt cx="2055960" cy="3323880"/>
          </a:xfrm>
        </p:grpSpPr>
        <p:pic>
          <p:nvPicPr>
            <p:cNvPr id="300" name="Robert%20de%20Baudricourt" descr=""/>
            <p:cNvPicPr/>
            <p:nvPr/>
          </p:nvPicPr>
          <p:blipFill>
            <a:blip r:embed="rId10"/>
            <a:stretch/>
          </p:blipFill>
          <p:spPr>
            <a:xfrm>
              <a:off x="6324480" y="914400"/>
              <a:ext cx="2055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705720" y="3657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Robert de Baudricou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81280" y="838080"/>
            <a:ext cx="2286000" cy="3156840"/>
            <a:chOff x="3581280" y="838080"/>
            <a:chExt cx="2286000" cy="3156840"/>
          </a:xfrm>
        </p:grpSpPr>
        <p:pic>
          <p:nvPicPr>
            <p:cNvPr id="303" name="st%20cathering" descr=""/>
            <p:cNvPicPr/>
            <p:nvPr/>
          </p:nvPicPr>
          <p:blipFill>
            <a:blip r:embed="rId11"/>
            <a:stretch/>
          </p:blipFill>
          <p:spPr>
            <a:xfrm>
              <a:off x="3581280" y="838080"/>
              <a:ext cx="193680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625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St. Cather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86000" y="4114800"/>
            <a:ext cx="2514600" cy="2470680"/>
            <a:chOff x="2286000" y="4114800"/>
            <a:chExt cx="2514600" cy="2470680"/>
          </a:xfrm>
        </p:grpSpPr>
        <p:pic>
          <p:nvPicPr>
            <p:cNvPr id="306" name="photo%20not%20available" descr=""/>
            <p:cNvPicPr/>
            <p:nvPr/>
          </p:nvPicPr>
          <p:blipFill>
            <a:blip r:embed="rId12"/>
            <a:stretch/>
          </p:blipFill>
          <p:spPr>
            <a:xfrm>
              <a:off x="2286000" y="4114800"/>
              <a:ext cx="1589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362320" y="624816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arles de Ponthie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4038480"/>
            <a:ext cx="2286000" cy="2699640"/>
            <a:chOff x="4952880" y="4038480"/>
            <a:chExt cx="2286000" cy="2699640"/>
          </a:xfrm>
        </p:grpSpPr>
        <p:pic>
          <p:nvPicPr>
            <p:cNvPr id="309" name="henry%20Vi" descr=""/>
            <p:cNvPicPr/>
            <p:nvPr/>
          </p:nvPicPr>
          <p:blipFill>
            <a:blip r:embed="rId13"/>
            <a:stretch/>
          </p:blipFill>
          <p:spPr>
            <a:xfrm>
              <a:off x="4952880" y="4038480"/>
              <a:ext cx="1538280" cy="20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029200" y="64008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Henry 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>
            <a:hlinkClick r:id="rId1" action="ppaction://hlinksldjump"/>
          </p:cNvPr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>
            <a:hlinkClick r:id="rId4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6" descr="FBmasthead2_1204x83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7">
            <a:hlinkClick r:id="rId6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>
            <a:hlinkClick r:id="rId7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Tempus Sans ITC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joan%20of%20arc" descr=""/>
          <p:cNvPicPr/>
          <p:nvPr/>
        </p:nvPicPr>
        <p:blipFill>
          <a:blip r:embed="rId8"/>
          <a:stretch/>
        </p:blipFill>
        <p:spPr>
          <a:xfrm>
            <a:off x="533520" y="838080"/>
            <a:ext cx="214452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2840" y="0"/>
            <a:ext cx="9058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JoanOfArc" descr=""/>
          <p:cNvPicPr/>
          <p:nvPr/>
        </p:nvPicPr>
        <p:blipFill>
          <a:blip r:embed="rId9"/>
          <a:stretch/>
        </p:blipFill>
        <p:spPr>
          <a:xfrm>
            <a:off x="3352680" y="838080"/>
            <a:ext cx="2451240" cy="2743200"/>
          </a:xfrm>
          <a:prstGeom prst="rect">
            <a:avLst/>
          </a:prstGeom>
          <a:ln w="0">
            <a:noFill/>
          </a:ln>
        </p:spPr>
      </p:pic>
      <p:pic>
        <p:nvPicPr>
          <p:cNvPr id="324" name="joan%20of%20arc" descr=""/>
          <p:cNvPicPr/>
          <p:nvPr/>
        </p:nvPicPr>
        <p:blipFill>
          <a:blip r:embed="rId10"/>
          <a:stretch/>
        </p:blipFill>
        <p:spPr>
          <a:xfrm>
            <a:off x="6400800" y="762120"/>
            <a:ext cx="2368440" cy="3581280"/>
          </a:xfrm>
          <a:prstGeom prst="rect">
            <a:avLst/>
          </a:prstGeom>
          <a:ln w="0">
            <a:noFill/>
          </a:ln>
        </p:spPr>
      </p:pic>
      <p:pic>
        <p:nvPicPr>
          <p:cNvPr id="325" name="st%20joan%20of%20arc" descr=""/>
          <p:cNvPicPr/>
          <p:nvPr/>
        </p:nvPicPr>
        <p:blipFill>
          <a:blip r:embed="rId11"/>
          <a:stretch/>
        </p:blipFill>
        <p:spPr>
          <a:xfrm>
            <a:off x="609480" y="3886200"/>
            <a:ext cx="182412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joan%20of%20arc%20on%20horse" descr=""/>
          <p:cNvPicPr/>
          <p:nvPr/>
        </p:nvPicPr>
        <p:blipFill>
          <a:blip r:embed="rId12"/>
          <a:stretch/>
        </p:blipFill>
        <p:spPr>
          <a:xfrm>
            <a:off x="3429000" y="3809880"/>
            <a:ext cx="2087640" cy="2610000"/>
          </a:xfrm>
          <a:prstGeom prst="rect">
            <a:avLst/>
          </a:prstGeom>
          <a:ln w="0">
            <a:noFill/>
          </a:ln>
        </p:spPr>
      </p:pic>
      <p:pic>
        <p:nvPicPr>
          <p:cNvPr id="327" name="joannn%20of%20arc" descr=""/>
          <p:cNvPicPr/>
          <p:nvPr/>
        </p:nvPicPr>
        <p:blipFill>
          <a:blip r:embed="rId13"/>
          <a:stretch/>
        </p:blipFill>
        <p:spPr>
          <a:xfrm>
            <a:off x="6019920" y="4572000"/>
            <a:ext cx="2887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A. User</cp:lastModifiedBy>
  <dcterms:modified xsi:type="dcterms:W3CDTF">2010-04-13T13:05:34Z</dcterms:modified>
  <cp:revision>62</cp:revision>
  <dc:subject/>
  <dc:title>PowerPoint Presentation</dc:title>
</cp:coreProperties>
</file>