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3E33-BBB5-4883-8554-DDBA38B92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167A-BF44-4B9F-968C-9EC6349B3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09B4-D5DF-4C28-9DF9-0527DEEAC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34F1-D87F-409E-B625-52F1ACF7E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8A5E-2B80-4E96-A653-6D6A07A5B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2C06-78A9-44BC-9124-743772394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8D44-729A-4EFA-A624-453DD5560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92BD-5084-4AF0-B5FA-DDA272543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EF74-85B1-4D7D-B919-8C47B7AA2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F744-CEBF-418D-8AE8-1A7CE827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3817-2A0D-451B-AFA7-EDB2182B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78BF-8A71-4A2E-A2AB-6608A960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541F-8184-402D-9DD3-40A37241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3887-93CE-454D-B55F-C353E94A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8067-ECFF-448C-85EC-1FA34CF5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3E35-9EC3-48DD-90EA-D6CCC5EC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C125-3940-41CE-B892-74197D89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E3E9-0365-47A8-AC6A-04292678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8C7D-FEAC-4B85-A5AA-7BDBC1FA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DA43-B472-4F00-8A28-8BC37E00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68A3-9A00-4782-AFE8-A59E707B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0C8C-A7B0-49C5-8EE1-7C1987397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image" Target="../media/image3.png"/><Relationship Id="rId8" Type="http://schemas.openxmlformats.org/officeDocument/2006/relationships/slide" Target="slide6.xml"/><Relationship Id="rId9" Type="http://schemas.openxmlformats.org/officeDocument/2006/relationships/slide" Target="slide9.xml"/><Relationship Id="rId10" Type="http://schemas.openxmlformats.org/officeDocument/2006/relationships/image" Target="../media/image4.jpeg"/><Relationship Id="rId11" Type="http://schemas.openxmlformats.org/officeDocument/2006/relationships/slide" Target="slide6.xml"/><Relationship Id="rId12" Type="http://schemas.openxmlformats.org/officeDocument/2006/relationships/slide" Target="slide7.xml"/><Relationship Id="rId13" Type="http://schemas.openxmlformats.org/officeDocument/2006/relationships/image" Target="../media/image5.jpeg"/><Relationship Id="rId14" Type="http://schemas.openxmlformats.org/officeDocument/2006/relationships/image" Target="../media/image6.jpeg"/><Relationship Id="rId15" Type="http://schemas.openxmlformats.org/officeDocument/2006/relationships/image" Target="../media/image5.jpeg"/><Relationship Id="rId16" Type="http://schemas.openxmlformats.org/officeDocument/2006/relationships/image" Target="../media/image6.jpeg"/><Relationship Id="rId17" Type="http://schemas.openxmlformats.org/officeDocument/2006/relationships/image" Target="../media/image5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5.jpeg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image" Target="../media/image8.jpeg"/><Relationship Id="rId13" Type="http://schemas.openxmlformats.org/officeDocument/2006/relationships/image" Target="../media/image5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9.jpeg"/><Relationship Id="rId13" Type="http://schemas.openxmlformats.org/officeDocument/2006/relationships/image" Target="../media/image3.png"/><Relationship Id="rId14" Type="http://schemas.openxmlformats.org/officeDocument/2006/relationships/image" Target="../media/image11.jpeg"/><Relationship Id="rId15" Type="http://schemas.openxmlformats.org/officeDocument/2006/relationships/image" Target="../media/image9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3.pn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2.jpeg"/><Relationship Id="rId13" Type="http://schemas.openxmlformats.org/officeDocument/2006/relationships/image" Target="../media/image9.jpe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3.png"/><Relationship Id="rId10" Type="http://schemas.openxmlformats.org/officeDocument/2006/relationships/image" Target="../media/image9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1.xml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1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12.jpeg"/><Relationship Id="rId10" Type="http://schemas.openxmlformats.org/officeDocument/2006/relationships/image" Target="../media/image18.jpeg"/><Relationship Id="rId11" Type="http://schemas.openxmlformats.org/officeDocument/2006/relationships/image" Target="../media/image8.jpeg"/><Relationship Id="rId12" Type="http://schemas.openxmlformats.org/officeDocument/2006/relationships/image" Target="../media/image10.jpe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1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13.png"/><Relationship Id="rId10" Type="http://schemas.openxmlformats.org/officeDocument/2006/relationships/image" Target="../media/image6.jpeg"/><Relationship Id="rId11" Type="http://schemas.openxmlformats.org/officeDocument/2006/relationships/image" Target="../media/image15.jpeg"/><Relationship Id="rId12" Type="http://schemas.openxmlformats.org/officeDocument/2006/relationships/image" Target="../media/image8.jpeg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image" Target="../media/image4.jpeg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image" Target="../media/image19.png"/><Relationship Id="rId9" Type="http://schemas.openxmlformats.org/officeDocument/2006/relationships/image" Target="../media/image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1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2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3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0" y="6019920"/>
            <a:ext cx="2590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umber of fri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6"/>
          <p:cNvSpPr/>
          <p:nvPr/>
        </p:nvSpPr>
        <p:spPr>
          <a:xfrm>
            <a:off x="0" y="40384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8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" descr="view photos"/>
          <p:cNvPicPr/>
          <p:nvPr/>
        </p:nvPicPr>
        <p:blipFill>
          <a:blip r:embed="rId4"/>
          <a:stretch/>
        </p:blipFill>
        <p:spPr>
          <a:xfrm>
            <a:off x="0" y="3581280"/>
            <a:ext cx="2417760" cy="50184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22">
            <a:hlinkClick r:id="rId5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23">
            <a:hlinkClick r:id="rId6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info-side"/>
          <p:cNvPicPr/>
          <p:nvPr/>
        </p:nvPicPr>
        <p:blipFill>
          <a:blip r:embed="rId7"/>
          <a:stretch/>
        </p:blipFill>
        <p:spPr>
          <a:xfrm>
            <a:off x="0" y="4114800"/>
            <a:ext cx="2571840" cy="2185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0" y="4724280"/>
            <a:ext cx="2666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0" y="5181480"/>
            <a:ext cx="152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anuary 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14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7"/>
          <p:cNvSpPr/>
          <p:nvPr/>
        </p:nvSpPr>
        <p:spPr>
          <a:xfrm>
            <a:off x="0" y="42670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4">
            <a:hlinkClick r:id="rId8" action="ppaction://hlinksldjump"/>
          </p:cNvPr>
          <p:cNvSpPr/>
          <p:nvPr/>
        </p:nvSpPr>
        <p:spPr>
          <a:xfrm>
            <a:off x="152280" y="38098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5">
            <a:hlinkClick r:id="rId9" action="ppaction://hlinksldjump"/>
          </p:cNvPr>
          <p:cNvSpPr/>
          <p:nvPr/>
        </p:nvSpPr>
        <p:spPr>
          <a:xfrm>
            <a:off x="152280" y="35812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3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3" descr="FBmasthead2_1204x83.jpg"/>
          <p:cNvPicPr/>
          <p:nvPr/>
        </p:nvPicPr>
        <p:blipFill>
          <a:blip r:embed="rId10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1">
            <a:hlinkClick r:id="rId11" action="ppaction://hlinksldjump"/>
          </p:cNvPr>
          <p:cNvSpPr/>
          <p:nvPr/>
        </p:nvSpPr>
        <p:spPr>
          <a:xfrm>
            <a:off x="2895480" y="7621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2">
            <a:hlinkClick r:id="rId12" action="ppaction://hlinksldjump"/>
          </p:cNvPr>
          <p:cNvSpPr/>
          <p:nvPr/>
        </p:nvSpPr>
        <p:spPr>
          <a:xfrm>
            <a:off x="335268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3">
            <a:hlinkClick r:id="" action="ppaction://hlinkshowjump?jump=firstslide"/>
          </p:cNvPr>
          <p:cNvSpPr/>
          <p:nvPr/>
        </p:nvSpPr>
        <p:spPr>
          <a:xfrm>
            <a:off x="23623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joan%20of%20ac" descr=""/>
          <p:cNvPicPr/>
          <p:nvPr/>
        </p:nvPicPr>
        <p:blipFill>
          <a:blip r:embed="rId13"/>
          <a:stretch/>
        </p:blipFill>
        <p:spPr>
          <a:xfrm>
            <a:off x="152280" y="838080"/>
            <a:ext cx="190512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133720" y="1447920"/>
            <a:ext cx="685800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"When I was thirteen years old, I had a Voice from God to help me govern my conduct. And the first time I was very fearful. And came this Voice, about the hour of noon, in the summer-time, in my father's garden; I had not fasted on the eve preceding that day.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124080" y="2666880"/>
            <a:ext cx="4648320" cy="838080"/>
            <a:chOff x="3124080" y="2666880"/>
            <a:chExt cx="4648320" cy="838080"/>
          </a:xfrm>
        </p:grpSpPr>
        <p:pic>
          <p:nvPicPr>
            <p:cNvPr id="72" name="Robert%20de%20Baudricourt" descr=""/>
            <p:cNvPicPr/>
            <p:nvPr/>
          </p:nvPicPr>
          <p:blipFill>
            <a:blip r:embed="rId14"/>
            <a:srcRect l="0" t="10526" r="10587" b="0"/>
            <a:stretch/>
          </p:blipFill>
          <p:spPr>
            <a:xfrm>
              <a:off x="3124080" y="2666880"/>
              <a:ext cx="68580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962160" y="2819160"/>
              <a:ext cx="3810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  <a:ea typeface="Times New Roman"/>
                </a:rPr>
                <a:t>Robert de Baudricourt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You should come visit me. We can work toge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048120" y="3581280"/>
            <a:ext cx="4723920" cy="1066680"/>
            <a:chOff x="3048120" y="3581280"/>
            <a:chExt cx="4723920" cy="1066680"/>
          </a:xfrm>
        </p:grpSpPr>
        <p:pic>
          <p:nvPicPr>
            <p:cNvPr id="75" name="joan%20of%20ac" descr=""/>
            <p:cNvPicPr/>
            <p:nvPr/>
          </p:nvPicPr>
          <p:blipFill>
            <a:blip r:embed="rId15"/>
            <a:srcRect l="26535" t="26476" r="20630" b="20610"/>
            <a:stretch/>
          </p:blipFill>
          <p:spPr>
            <a:xfrm>
              <a:off x="3048120" y="3581280"/>
              <a:ext cx="7840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4190760" y="3809880"/>
              <a:ext cx="3581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 I will come as soon as I can and we can fight together and I will tell you all I know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553080" y="685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Joan of 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48120" y="4724280"/>
            <a:ext cx="4647600" cy="976320"/>
            <a:chOff x="3048120" y="4724280"/>
            <a:chExt cx="4647600" cy="976320"/>
          </a:xfrm>
        </p:grpSpPr>
        <p:pic>
          <p:nvPicPr>
            <p:cNvPr id="79" name="Robert%20de%20Baudricourt" descr=""/>
            <p:cNvPicPr/>
            <p:nvPr/>
          </p:nvPicPr>
          <p:blipFill>
            <a:blip r:embed="rId16"/>
            <a:srcRect l="0" t="10526" r="10587" b="0"/>
            <a:stretch/>
          </p:blipFill>
          <p:spPr>
            <a:xfrm>
              <a:off x="3048120" y="4724280"/>
              <a:ext cx="68544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885840" y="4876560"/>
              <a:ext cx="3809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  <a:ea typeface="Times New Roman"/>
                </a:rPr>
                <a:t>Robert de Baudricourt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I am very interesting in what you have to tell. I will be waiting for you 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048120" y="5638680"/>
            <a:ext cx="4723920" cy="1066680"/>
            <a:chOff x="3048120" y="5638680"/>
            <a:chExt cx="4723920" cy="1066680"/>
          </a:xfrm>
        </p:grpSpPr>
        <p:pic>
          <p:nvPicPr>
            <p:cNvPr id="82" name="joan%20of%20ac" descr=""/>
            <p:cNvPicPr/>
            <p:nvPr/>
          </p:nvPicPr>
          <p:blipFill>
            <a:blip r:embed="rId17"/>
            <a:srcRect l="26535" t="26476" r="20630" b="20610"/>
            <a:stretch/>
          </p:blipFill>
          <p:spPr>
            <a:xfrm>
              <a:off x="3048120" y="5638680"/>
              <a:ext cx="7840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4190760" y="5867280"/>
              <a:ext cx="3581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I have so much to tell from the voices I am hearing. I think that I can help you greatly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9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0" y="42670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3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7">
            <a:hlinkClick r:id="rId4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8">
            <a:hlinkClick r:id="rId5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25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26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2286000" y="1447920"/>
            <a:ext cx="63244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day in May 1428 I have been given the divine message to seek audience with Charles de Ponthieu the relatively weak leader of the French, so I have gone out today to find h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2"/>
          <p:cNvSpPr/>
          <p:nvPr/>
        </p:nvSpPr>
        <p:spPr>
          <a:xfrm>
            <a:off x="3276720" y="259092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4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7"/>
          <p:cNvSpPr/>
          <p:nvPr/>
        </p:nvSpPr>
        <p:spPr>
          <a:xfrm>
            <a:off x="67816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Wal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joan%20of%20ac" descr=""/>
          <p:cNvPicPr/>
          <p:nvPr/>
        </p:nvPicPr>
        <p:blipFill>
          <a:blip r:embed="rId9"/>
          <a:stretch/>
        </p:blipFill>
        <p:spPr>
          <a:xfrm>
            <a:off x="152280" y="762120"/>
            <a:ext cx="1905120" cy="259056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2895480" y="5562720"/>
            <a:ext cx="4876920" cy="1564920"/>
            <a:chOff x="2895480" y="5562720"/>
            <a:chExt cx="4876920" cy="1564920"/>
          </a:xfrm>
        </p:grpSpPr>
        <p:pic>
          <p:nvPicPr>
            <p:cNvPr id="103" name="Facebook%20icons" descr=""/>
            <p:cNvPicPr/>
            <p:nvPr/>
          </p:nvPicPr>
          <p:blipFill>
            <a:blip r:embed="rId10"/>
            <a:srcRect l="78003" t="68685" r="2003" b="0"/>
            <a:stretch/>
          </p:blipFill>
          <p:spPr>
            <a:xfrm>
              <a:off x="2895480" y="5638680"/>
              <a:ext cx="60948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657600" y="5562720"/>
              <a:ext cx="4114800" cy="15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is now friends with </a:t>
              </a: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Charles De Ponthieu, Jeanne Arc, Jacquemin 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and </a:t>
              </a: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Pierre 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0" y="3429000"/>
            <a:ext cx="2666880" cy="2719440"/>
            <a:chOff x="0" y="3429000"/>
            <a:chExt cx="2666880" cy="2719440"/>
          </a:xfrm>
        </p:grpSpPr>
        <p:pic>
          <p:nvPicPr>
            <p:cNvPr id="106" name="Picture 6" descr="info-side"/>
            <p:cNvPicPr/>
            <p:nvPr/>
          </p:nvPicPr>
          <p:blipFill>
            <a:blip r:embed="rId11"/>
            <a:stretch/>
          </p:blipFill>
          <p:spPr>
            <a:xfrm>
              <a:off x="0" y="3962520"/>
              <a:ext cx="257184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9"/>
            <p:cNvSpPr/>
            <p:nvPr/>
          </p:nvSpPr>
          <p:spPr>
            <a:xfrm>
              <a:off x="0" y="4572000"/>
              <a:ext cx="266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ing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0" y="5029200"/>
              <a:ext cx="1523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anuary 6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ahom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14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AutoShape 17"/>
            <p:cNvSpPr/>
            <p:nvPr/>
          </p:nvSpPr>
          <p:spPr>
            <a:xfrm>
              <a:off x="0" y="41148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AutoShape 24"/>
            <p:cNvSpPr/>
            <p:nvPr/>
          </p:nvSpPr>
          <p:spPr>
            <a:xfrm>
              <a:off x="152280" y="36576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AutoShape 25"/>
            <p:cNvSpPr/>
            <p:nvPr/>
          </p:nvSpPr>
          <p:spPr>
            <a:xfrm>
              <a:off x="152280" y="34290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AutoShape 24"/>
          <p:cNvSpPr/>
          <p:nvPr/>
        </p:nvSpPr>
        <p:spPr>
          <a:xfrm>
            <a:off x="228600" y="373392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5"/>
          <p:cNvSpPr/>
          <p:nvPr/>
        </p:nvSpPr>
        <p:spPr>
          <a:xfrm>
            <a:off x="228600" y="350532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200400" y="2590920"/>
            <a:ext cx="4343400" cy="990720"/>
            <a:chOff x="3200400" y="2590920"/>
            <a:chExt cx="4343400" cy="990720"/>
          </a:xfrm>
        </p:grpSpPr>
        <p:pic>
          <p:nvPicPr>
            <p:cNvPr id="115" name="photo%20not%20available" descr=""/>
            <p:cNvPicPr/>
            <p:nvPr/>
          </p:nvPicPr>
          <p:blipFill>
            <a:blip r:embed="rId12"/>
            <a:stretch/>
          </p:blipFill>
          <p:spPr>
            <a:xfrm>
              <a:off x="3200400" y="2590920"/>
              <a:ext cx="79524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114800" y="2590920"/>
              <a:ext cx="3429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Charles de Ponthieu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 I will be awaiting your arival. We will unite the French and work together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553080" y="685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Joan of 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124080" y="3886200"/>
            <a:ext cx="4724640" cy="1539360"/>
            <a:chOff x="3124080" y="3886200"/>
            <a:chExt cx="4724640" cy="1539360"/>
          </a:xfrm>
        </p:grpSpPr>
        <p:pic>
          <p:nvPicPr>
            <p:cNvPr id="119" name="joan%20of%20ac" descr=""/>
            <p:cNvPicPr/>
            <p:nvPr/>
          </p:nvPicPr>
          <p:blipFill>
            <a:blip r:embed="rId13"/>
            <a:srcRect l="26535" t="26476" r="20630" b="20610"/>
            <a:stretch/>
          </p:blipFill>
          <p:spPr>
            <a:xfrm>
              <a:off x="3124080" y="3886200"/>
              <a:ext cx="7844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267080" y="4114800"/>
              <a:ext cx="35816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I am leaving soon to come visit and we will work together. I have been told to come and see you and that is my next mission.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9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3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7">
            <a:hlinkClick r:id="rId4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8">
            <a:hlinkClick r:id="rId5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25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6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9"/>
          <p:cNvSpPr/>
          <p:nvPr/>
        </p:nvSpPr>
        <p:spPr>
          <a:xfrm>
            <a:off x="3200400" y="54100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0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>
            <a:hlinkClick r:id="rId7" action="ppaction://hlinksldjump"/>
          </p:cNvPr>
          <p:cNvSpPr/>
          <p:nvPr/>
        </p:nvSpPr>
        <p:spPr>
          <a:xfrm>
            <a:off x="28195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">
            <a:hlinkClick r:id="rId8" action="ppaction://hlinksldjump"/>
          </p:cNvPr>
          <p:cNvSpPr/>
          <p:nvPr/>
        </p:nvSpPr>
        <p:spPr>
          <a:xfrm>
            <a:off x="335268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9">
            <a:hlinkClick r:id="" action="ppaction://hlinkshowjump?jump=firstslide"/>
          </p:cNvPr>
          <p:cNvSpPr/>
          <p:nvPr/>
        </p:nvSpPr>
        <p:spPr>
          <a:xfrm>
            <a:off x="23623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662940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Wall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JoanOfArc" descr=""/>
          <p:cNvPicPr/>
          <p:nvPr/>
        </p:nvPicPr>
        <p:blipFill>
          <a:blip r:embed="rId9"/>
          <a:stretch/>
        </p:blipFill>
        <p:spPr>
          <a:xfrm>
            <a:off x="228600" y="762120"/>
            <a:ext cx="1787400" cy="2438280"/>
          </a:xfrm>
          <a:prstGeom prst="rect">
            <a:avLst/>
          </a:prstGeom>
          <a:ln w="0">
            <a:noFill/>
          </a:ln>
        </p:spPr>
      </p:pic>
      <p:pic>
        <p:nvPicPr>
          <p:cNvPr id="137" name="JoanOfArc" descr=""/>
          <p:cNvPicPr/>
          <p:nvPr/>
        </p:nvPicPr>
        <p:blipFill>
          <a:blip r:embed="rId10"/>
          <a:stretch/>
        </p:blipFill>
        <p:spPr>
          <a:xfrm>
            <a:off x="4191120" y="4495680"/>
            <a:ext cx="1523880" cy="762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429000" y="411480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Century Gothic"/>
              </a:rPr>
              <a:t>Joan Of Arc</a:t>
            </a:r>
            <a:r>
              <a:rPr b="0" lang="en-US" sz="12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dded a new profile picture.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666880" y="5181480"/>
            <a:ext cx="4038480" cy="1185840"/>
            <a:chOff x="2666880" y="5181480"/>
            <a:chExt cx="4038480" cy="1185840"/>
          </a:xfrm>
        </p:grpSpPr>
        <p:grpSp>
          <p:nvGrpSpPr>
            <p:cNvPr id="140" name=""/>
            <p:cNvGrpSpPr/>
            <p:nvPr/>
          </p:nvGrpSpPr>
          <p:grpSpPr>
            <a:xfrm>
              <a:off x="2666880" y="5181480"/>
              <a:ext cx="838080" cy="1185840"/>
              <a:chOff x="2666880" y="5181480"/>
              <a:chExt cx="838080" cy="1185840"/>
            </a:xfrm>
          </p:grpSpPr>
          <p:sp>
            <p:nvSpPr>
              <p:cNvPr id="141" name=""/>
              <p:cNvSpPr/>
              <p:nvPr/>
            </p:nvSpPr>
            <p:spPr>
              <a:xfrm>
                <a:off x="2785680" y="6030360"/>
                <a:ext cx="18432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2" name="Isabelle%20Arc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66880" y="5181480"/>
                <a:ext cx="838080" cy="772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" name=""/>
            <p:cNvSpPr/>
            <p:nvPr/>
          </p:nvSpPr>
          <p:spPr>
            <a:xfrm>
              <a:off x="3733560" y="5333760"/>
              <a:ext cx="2971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Isabelle Arc</a:t>
              </a:r>
              <a:r>
                <a:rPr b="0" lang="en-US" sz="12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beautiful picture honey. Good luck in the war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33920" y="5867280"/>
            <a:ext cx="4114800" cy="838080"/>
            <a:chOff x="3733920" y="5867280"/>
            <a:chExt cx="4114800" cy="838080"/>
          </a:xfrm>
        </p:grpSpPr>
        <p:pic>
          <p:nvPicPr>
            <p:cNvPr id="145" name="JoanOfArc" descr=""/>
            <p:cNvPicPr/>
            <p:nvPr/>
          </p:nvPicPr>
          <p:blipFill>
            <a:blip r:embed="rId12"/>
            <a:srcRect l="6632" t="0" r="20076" b="26665"/>
            <a:stretch/>
          </p:blipFill>
          <p:spPr>
            <a:xfrm>
              <a:off x="3733920" y="5867280"/>
              <a:ext cx="61452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800960" y="6019560"/>
              <a:ext cx="3047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Century Gothic"/>
                </a:rPr>
                <a:t> </a:t>
              </a:r>
              <a:r>
                <a:rPr b="0" lang="en-US" sz="12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</a:t>
              </a:r>
              <a:r>
                <a:rPr b="0" lang="en-US" sz="12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Thanks a lot mom. I’ll miss you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0" y="3429000"/>
            <a:ext cx="2666880" cy="2719440"/>
            <a:chOff x="0" y="3429000"/>
            <a:chExt cx="2666880" cy="2719440"/>
          </a:xfrm>
        </p:grpSpPr>
        <p:pic>
          <p:nvPicPr>
            <p:cNvPr id="148" name="Picture 6" descr="info-side"/>
            <p:cNvPicPr/>
            <p:nvPr/>
          </p:nvPicPr>
          <p:blipFill>
            <a:blip r:embed="rId13"/>
            <a:stretch/>
          </p:blipFill>
          <p:spPr>
            <a:xfrm>
              <a:off x="0" y="3962520"/>
              <a:ext cx="257184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9"/>
            <p:cNvSpPr/>
            <p:nvPr/>
          </p:nvSpPr>
          <p:spPr>
            <a:xfrm>
              <a:off x="0" y="4572000"/>
              <a:ext cx="266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ing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10"/>
            <p:cNvSpPr/>
            <p:nvPr/>
          </p:nvSpPr>
          <p:spPr>
            <a:xfrm>
              <a:off x="0" y="5029200"/>
              <a:ext cx="1523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anuary 6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ahom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14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AutoShape 17"/>
            <p:cNvSpPr/>
            <p:nvPr/>
          </p:nvSpPr>
          <p:spPr>
            <a:xfrm>
              <a:off x="0" y="41148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AutoShape 24"/>
            <p:cNvSpPr/>
            <p:nvPr/>
          </p:nvSpPr>
          <p:spPr>
            <a:xfrm>
              <a:off x="152280" y="36576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AutoShape 25"/>
            <p:cNvSpPr/>
            <p:nvPr/>
          </p:nvSpPr>
          <p:spPr>
            <a:xfrm>
              <a:off x="152280" y="34290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133720" y="1447920"/>
            <a:ext cx="67816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hildren say that people are hung sometimes for speaking the truth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53080" y="685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Joan of 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henry%20Vi" descr=""/>
          <p:cNvPicPr/>
          <p:nvPr/>
        </p:nvPicPr>
        <p:blipFill>
          <a:blip r:embed="rId14"/>
          <a:stretch/>
        </p:blipFill>
        <p:spPr>
          <a:xfrm>
            <a:off x="2362320" y="2438280"/>
            <a:ext cx="631800" cy="8510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733920" y="2590920"/>
            <a:ext cx="472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Century Gothic"/>
              </a:rPr>
              <a:t>Henry VI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You spoke the truth but because of heresy you will still be burned at the st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joan%20of%20arc%20sword" descr=""/>
          <p:cNvPicPr/>
          <p:nvPr/>
        </p:nvPicPr>
        <p:blipFill>
          <a:blip r:embed="rId15"/>
          <a:stretch/>
        </p:blipFill>
        <p:spPr>
          <a:xfrm>
            <a:off x="3048120" y="3200400"/>
            <a:ext cx="749160" cy="838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038480" y="3352680"/>
            <a:ext cx="426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Century Gothic"/>
              </a:rPr>
              <a:t>Joan of Arc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I did what I knew was right and I don’t care what others feel. I told the truth and that was the best I could 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5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7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0">
            <a:hlinkClick r:id="rId4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1">
            <a:hlinkClick r:id="rId5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4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5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4"/>
          <p:cNvSpPr/>
          <p:nvPr/>
        </p:nvSpPr>
        <p:spPr>
          <a:xfrm>
            <a:off x="3276720" y="2666880"/>
            <a:ext cx="13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5"/>
          <p:cNvSpPr/>
          <p:nvPr/>
        </p:nvSpPr>
        <p:spPr>
          <a:xfrm>
            <a:off x="5486400" y="31240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1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63244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Wall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0" y="3429000"/>
            <a:ext cx="2666880" cy="2719440"/>
            <a:chOff x="0" y="3429000"/>
            <a:chExt cx="2666880" cy="2719440"/>
          </a:xfrm>
        </p:grpSpPr>
        <p:pic>
          <p:nvPicPr>
            <p:cNvPr id="177" name="Picture 6" descr="info-side"/>
            <p:cNvPicPr/>
            <p:nvPr/>
          </p:nvPicPr>
          <p:blipFill>
            <a:blip r:embed="rId9"/>
            <a:stretch/>
          </p:blipFill>
          <p:spPr>
            <a:xfrm>
              <a:off x="0" y="3962520"/>
              <a:ext cx="257184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9"/>
            <p:cNvSpPr/>
            <p:nvPr/>
          </p:nvSpPr>
          <p:spPr>
            <a:xfrm>
              <a:off x="0" y="4572000"/>
              <a:ext cx="266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ing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10"/>
            <p:cNvSpPr/>
            <p:nvPr/>
          </p:nvSpPr>
          <p:spPr>
            <a:xfrm>
              <a:off x="0" y="5029200"/>
              <a:ext cx="1523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anuary 6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ahom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14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AutoShape 17"/>
            <p:cNvSpPr/>
            <p:nvPr/>
          </p:nvSpPr>
          <p:spPr>
            <a:xfrm>
              <a:off x="0" y="41148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AutoShape 24"/>
            <p:cNvSpPr/>
            <p:nvPr/>
          </p:nvSpPr>
          <p:spPr>
            <a:xfrm>
              <a:off x="152280" y="36576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AutoShape 25"/>
            <p:cNvSpPr/>
            <p:nvPr/>
          </p:nvSpPr>
          <p:spPr>
            <a:xfrm>
              <a:off x="152280" y="34290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3" name="JoanOfArc" descr=""/>
          <p:cNvPicPr/>
          <p:nvPr/>
        </p:nvPicPr>
        <p:blipFill>
          <a:blip r:embed="rId10"/>
          <a:stretch/>
        </p:blipFill>
        <p:spPr>
          <a:xfrm>
            <a:off x="0" y="838080"/>
            <a:ext cx="20131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3200400" y="2514600"/>
            <a:ext cx="4495680" cy="1980720"/>
            <a:chOff x="3200400" y="2514600"/>
            <a:chExt cx="4495680" cy="1980720"/>
          </a:xfrm>
        </p:grpSpPr>
        <p:grpSp>
          <p:nvGrpSpPr>
            <p:cNvPr id="185" name=""/>
            <p:cNvGrpSpPr/>
            <p:nvPr/>
          </p:nvGrpSpPr>
          <p:grpSpPr>
            <a:xfrm>
              <a:off x="3200400" y="2514600"/>
              <a:ext cx="4343400" cy="1066680"/>
              <a:chOff x="3200400" y="2514600"/>
              <a:chExt cx="4343400" cy="1066680"/>
            </a:xfrm>
          </p:grpSpPr>
          <p:pic>
            <p:nvPicPr>
              <p:cNvPr id="186" name="Isabelle%20Arc" descr=""/>
              <p:cNvPicPr/>
              <p:nvPr/>
            </p:nvPicPr>
            <p:blipFill>
              <a:blip r:embed="rId11"/>
              <a:stretch/>
            </p:blipFill>
            <p:spPr>
              <a:xfrm>
                <a:off x="3200400" y="2514600"/>
                <a:ext cx="928800" cy="10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4419720" y="2666880"/>
                <a:ext cx="3124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 u="sng">
                    <a:solidFill>
                      <a:srgbClr val="3333cc"/>
                    </a:solidFill>
                    <a:uFillTx/>
                    <a:latin typeface="Century Gothic"/>
                  </a:rPr>
                  <a:t>Isabelle Arc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entury Gothic"/>
                  </a:rPr>
                  <a:t>Good luck Joan! You will do great. We all believe in you.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8" name="Jean%20Of%20Arc" descr=""/>
            <p:cNvPicPr/>
            <p:nvPr/>
          </p:nvPicPr>
          <p:blipFill>
            <a:blip r:embed="rId12"/>
            <a:stretch/>
          </p:blipFill>
          <p:spPr>
            <a:xfrm>
              <a:off x="3200400" y="3657240"/>
              <a:ext cx="99072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648320" y="3809880"/>
              <a:ext cx="3047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eanne Arc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Good luck sis. I’ll miss you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276720" y="5715000"/>
            <a:ext cx="4724280" cy="914400"/>
            <a:chOff x="3276720" y="5715000"/>
            <a:chExt cx="4724280" cy="914400"/>
          </a:xfrm>
        </p:grpSpPr>
        <p:pic>
          <p:nvPicPr>
            <p:cNvPr id="191" name="JoanOfArc" descr=""/>
            <p:cNvPicPr/>
            <p:nvPr/>
          </p:nvPicPr>
          <p:blipFill>
            <a:blip r:embed="rId13"/>
            <a:stretch/>
          </p:blipFill>
          <p:spPr>
            <a:xfrm>
              <a:off x="3276720" y="5715000"/>
              <a:ext cx="8985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724640" y="5791320"/>
              <a:ext cx="327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thanks all! I will miss you. Keep in touch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553080" y="685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Joan of 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0" y="1523880"/>
            <a:ext cx="6324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 am not afraid… I was born to do this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ope%20symbol" descr=""/>
          <p:cNvPicPr/>
          <p:nvPr/>
        </p:nvPicPr>
        <p:blipFill>
          <a:blip r:embed="rId14"/>
          <a:stretch/>
        </p:blipFill>
        <p:spPr>
          <a:xfrm>
            <a:off x="3200400" y="4648320"/>
            <a:ext cx="898560" cy="922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48320" y="47242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Century Gothic"/>
              </a:rPr>
              <a:t>The Pope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You will do a great job. Make us prou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7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0">
            <a:hlinkClick r:id="rId4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1">
            <a:hlinkClick r:id="rId5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14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15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29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67816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Wall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3429000"/>
            <a:ext cx="2666880" cy="2719440"/>
            <a:chOff x="0" y="3429000"/>
            <a:chExt cx="2666880" cy="2719440"/>
          </a:xfrm>
        </p:grpSpPr>
        <p:pic>
          <p:nvPicPr>
            <p:cNvPr id="212" name="Picture 6" descr="info-side"/>
            <p:cNvPicPr/>
            <p:nvPr/>
          </p:nvPicPr>
          <p:blipFill>
            <a:blip r:embed="rId9"/>
            <a:stretch/>
          </p:blipFill>
          <p:spPr>
            <a:xfrm>
              <a:off x="0" y="3962520"/>
              <a:ext cx="257184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9"/>
            <p:cNvSpPr/>
            <p:nvPr/>
          </p:nvSpPr>
          <p:spPr>
            <a:xfrm>
              <a:off x="0" y="4572000"/>
              <a:ext cx="266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ing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10"/>
            <p:cNvSpPr/>
            <p:nvPr/>
          </p:nvSpPr>
          <p:spPr>
            <a:xfrm>
              <a:off x="0" y="5029200"/>
              <a:ext cx="1523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anuary 6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ahom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14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AutoShape 17"/>
            <p:cNvSpPr/>
            <p:nvPr/>
          </p:nvSpPr>
          <p:spPr>
            <a:xfrm>
              <a:off x="0" y="41148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AutoShape 24"/>
            <p:cNvSpPr/>
            <p:nvPr/>
          </p:nvSpPr>
          <p:spPr>
            <a:xfrm>
              <a:off x="152280" y="36576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AutoShape 25"/>
            <p:cNvSpPr/>
            <p:nvPr/>
          </p:nvSpPr>
          <p:spPr>
            <a:xfrm>
              <a:off x="152280" y="34290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8" name="joan%20of%20arc%20sword" descr=""/>
          <p:cNvPicPr/>
          <p:nvPr/>
        </p:nvPicPr>
        <p:blipFill>
          <a:blip r:embed="rId10"/>
          <a:stretch/>
        </p:blipFill>
        <p:spPr>
          <a:xfrm>
            <a:off x="0" y="914400"/>
            <a:ext cx="2041560" cy="25909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4"/>
          <p:cNvSpPr/>
          <p:nvPr/>
        </p:nvSpPr>
        <p:spPr>
          <a:xfrm>
            <a:off x="2209680" y="1447920"/>
            <a:ext cx="6934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would rather die than do something which I know to be a sin, or the be against God’s will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53080" y="685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Joan of 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352680" y="2514600"/>
            <a:ext cx="3962520" cy="1066680"/>
            <a:chOff x="3352680" y="2514600"/>
            <a:chExt cx="3962520" cy="1066680"/>
          </a:xfrm>
        </p:grpSpPr>
        <p:sp>
          <p:nvSpPr>
            <p:cNvPr id="222" name=""/>
            <p:cNvSpPr/>
            <p:nvPr/>
          </p:nvSpPr>
          <p:spPr>
            <a:xfrm>
              <a:off x="4038480" y="2514600"/>
              <a:ext cx="327672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 </a:t>
              </a: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acques d’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You will be missed honey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3" name="Jacques%20d'Arc" descr=""/>
            <p:cNvPicPr/>
            <p:nvPr/>
          </p:nvPicPr>
          <p:blipFill>
            <a:blip r:embed="rId11"/>
            <a:stretch/>
          </p:blipFill>
          <p:spPr>
            <a:xfrm>
              <a:off x="3352680" y="2514600"/>
              <a:ext cx="70164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"/>
          <p:cNvGrpSpPr/>
          <p:nvPr/>
        </p:nvGrpSpPr>
        <p:grpSpPr>
          <a:xfrm>
            <a:off x="3352680" y="3809880"/>
            <a:ext cx="4267440" cy="1066680"/>
            <a:chOff x="3352680" y="3809880"/>
            <a:chExt cx="4267440" cy="1066680"/>
          </a:xfrm>
        </p:grpSpPr>
        <p:pic>
          <p:nvPicPr>
            <p:cNvPr id="225" name="st%20cathering" descr=""/>
            <p:cNvPicPr/>
            <p:nvPr/>
          </p:nvPicPr>
          <p:blipFill>
            <a:blip r:embed="rId12"/>
            <a:stretch/>
          </p:blipFill>
          <p:spPr>
            <a:xfrm>
              <a:off x="3352680" y="3809880"/>
              <a:ext cx="7747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4419720" y="3885840"/>
              <a:ext cx="3200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St. Catherine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 You did what was right. You knew you did young Joan. We all believed in you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022640" y="1438200"/>
            <a:ext cx="443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joan%20of%20arc%20sword" descr=""/>
          <p:cNvPicPr/>
          <p:nvPr/>
        </p:nvPicPr>
        <p:blipFill>
          <a:blip r:embed="rId13"/>
          <a:stretch/>
        </p:blipFill>
        <p:spPr>
          <a:xfrm>
            <a:off x="3276720" y="5105520"/>
            <a:ext cx="952560" cy="10666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343400" y="5257800"/>
            <a:ext cx="388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Century Gothic"/>
              </a:rPr>
              <a:t>Joan of Arc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I will miss you all. St. Catherine I believe that I did what was right although it was against God’s will. I did it to help oth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>
            <a:hlinkClick r:id="rId3" action="ppaction://hlinksldjump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8" descr="basic-info"/>
          <p:cNvPicPr/>
          <p:nvPr/>
        </p:nvPicPr>
        <p:blipFill>
          <a:blip r:embed="rId4"/>
          <a:stretch/>
        </p:blipFill>
        <p:spPr>
          <a:xfrm>
            <a:off x="152280" y="838080"/>
            <a:ext cx="2971800" cy="29242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10"/>
          <p:cNvSpPr/>
          <p:nvPr/>
        </p:nvSpPr>
        <p:spPr>
          <a:xfrm>
            <a:off x="838080" y="15238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em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1371600" y="18288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anuary 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4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1676520" y="213372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rmremy in a Region of France known as Lorra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2666880" y="26668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2133720" y="30481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ng Live the King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2209680" y="35053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tho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6" descr="personal-info"/>
          <p:cNvPicPr/>
          <p:nvPr/>
        </p:nvPicPr>
        <p:blipFill>
          <a:blip r:embed="rId5"/>
          <a:srcRect l="0" t="0" r="0" b="16075"/>
          <a:stretch/>
        </p:blipFill>
        <p:spPr>
          <a:xfrm>
            <a:off x="4419720" y="914400"/>
            <a:ext cx="2403360" cy="35812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7"/>
          <p:cNvSpPr/>
          <p:nvPr/>
        </p:nvSpPr>
        <p:spPr>
          <a:xfrm>
            <a:off x="5486400" y="137160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fight in wars and I have visions from G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5410080" y="198108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Religio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9"/>
          <p:cNvSpPr/>
          <p:nvPr/>
        </p:nvSpPr>
        <p:spPr>
          <a:xfrm>
            <a:off x="6019920" y="22860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ospel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6400800" y="25909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nday Ma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6324480" y="28954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Passion Of Chr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2"/>
          <p:cNvSpPr/>
          <p:nvPr/>
        </p:nvSpPr>
        <p:spPr>
          <a:xfrm>
            <a:off x="6019920" y="32767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B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3"/>
          <p:cNvSpPr/>
          <p:nvPr/>
        </p:nvSpPr>
        <p:spPr>
          <a:xfrm>
            <a:off x="4648320" y="3886200"/>
            <a:ext cx="358128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fought in the Hundred Years War, and I have had many visions from God since I was thirteen years old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25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26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26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662940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4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5">
            <a:hlinkClick r:id="rId3" action="ppaction://hlinksldjump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26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27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7">
            <a:hlinkClick r:id="rId4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8">
            <a:hlinkClick r:id="rId5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30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67816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838080" y="4114800"/>
            <a:ext cx="3124440" cy="2318400"/>
            <a:chOff x="838080" y="4114800"/>
            <a:chExt cx="3124440" cy="2318400"/>
          </a:xfrm>
        </p:grpSpPr>
        <p:pic>
          <p:nvPicPr>
            <p:cNvPr id="269" name="00" descr=""/>
            <p:cNvPicPr/>
            <p:nvPr/>
          </p:nvPicPr>
          <p:blipFill>
            <a:blip r:embed="rId9"/>
            <a:stretch/>
          </p:blipFill>
          <p:spPr>
            <a:xfrm>
              <a:off x="838080" y="4114800"/>
              <a:ext cx="1967040" cy="18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838080" y="6095880"/>
              <a:ext cx="31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Jeanne 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657600" y="4038480"/>
            <a:ext cx="1862280" cy="2242440"/>
            <a:chOff x="3657600" y="4038480"/>
            <a:chExt cx="1862280" cy="2242440"/>
          </a:xfrm>
        </p:grpSpPr>
        <p:pic>
          <p:nvPicPr>
            <p:cNvPr id="272" name="Jacquemin%20Arc" descr=""/>
            <p:cNvPicPr/>
            <p:nvPr/>
          </p:nvPicPr>
          <p:blipFill>
            <a:blip r:embed="rId10"/>
            <a:srcRect l="0" t="14532" r="45552" b="40151"/>
            <a:stretch/>
          </p:blipFill>
          <p:spPr>
            <a:xfrm>
              <a:off x="3657600" y="4038480"/>
              <a:ext cx="186228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3657600" y="594360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Jacquemin 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324480" y="3962520"/>
            <a:ext cx="1981440" cy="2896200"/>
            <a:chOff x="6324480" y="3962520"/>
            <a:chExt cx="1981440" cy="2896200"/>
          </a:xfrm>
        </p:grpSpPr>
        <p:pic>
          <p:nvPicPr>
            <p:cNvPr id="275" name="photo%20not%20available" descr=""/>
            <p:cNvPicPr/>
            <p:nvPr/>
          </p:nvPicPr>
          <p:blipFill>
            <a:blip r:embed="rId11"/>
            <a:stretch/>
          </p:blipFill>
          <p:spPr>
            <a:xfrm>
              <a:off x="6324480" y="3962520"/>
              <a:ext cx="1905120" cy="23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6400800" y="652140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Pierre 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143000" y="762120"/>
            <a:ext cx="2120760" cy="3298320"/>
            <a:chOff x="1143000" y="762120"/>
            <a:chExt cx="2120760" cy="3298320"/>
          </a:xfrm>
        </p:grpSpPr>
        <p:pic>
          <p:nvPicPr>
            <p:cNvPr id="278" name="Isabelle%20Arc" descr=""/>
            <p:cNvPicPr/>
            <p:nvPr/>
          </p:nvPicPr>
          <p:blipFill>
            <a:blip r:embed="rId12"/>
            <a:stretch/>
          </p:blipFill>
          <p:spPr>
            <a:xfrm>
              <a:off x="1143000" y="762120"/>
              <a:ext cx="2120760" cy="24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447920" y="3352680"/>
              <a:ext cx="17524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Isabelle 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(mo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486400" y="685800"/>
            <a:ext cx="2895480" cy="3527280"/>
            <a:chOff x="5486400" y="685800"/>
            <a:chExt cx="2895480" cy="3527280"/>
          </a:xfrm>
        </p:grpSpPr>
        <p:pic>
          <p:nvPicPr>
            <p:cNvPr id="281" name="Jacques%20d'Arc" descr=""/>
            <p:cNvPicPr/>
            <p:nvPr/>
          </p:nvPicPr>
          <p:blipFill>
            <a:blip r:embed="rId13"/>
            <a:stretch/>
          </p:blipFill>
          <p:spPr>
            <a:xfrm>
              <a:off x="5486400" y="685800"/>
              <a:ext cx="1828800" cy="27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5562720" y="3505320"/>
              <a:ext cx="28191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Jacques d’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(d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">
            <a:hlinkClick r:id="rId3" action="ppaction://hlinksldjump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26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27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7">
            <a:hlinkClick r:id="rId4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8">
            <a:hlinkClick r:id="rId5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30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67816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80880" y="990720"/>
            <a:ext cx="2455920" cy="2927880"/>
            <a:chOff x="380880" y="990720"/>
            <a:chExt cx="2455920" cy="2927880"/>
          </a:xfrm>
        </p:grpSpPr>
        <p:pic>
          <p:nvPicPr>
            <p:cNvPr id="297" name="pope%20symbol" descr=""/>
            <p:cNvPicPr/>
            <p:nvPr/>
          </p:nvPicPr>
          <p:blipFill>
            <a:blip r:embed="rId9"/>
            <a:stretch/>
          </p:blipFill>
          <p:spPr>
            <a:xfrm>
              <a:off x="380880" y="990720"/>
              <a:ext cx="245592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838080" y="358128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The Po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324480" y="914400"/>
            <a:ext cx="2055960" cy="3323880"/>
            <a:chOff x="6324480" y="914400"/>
            <a:chExt cx="2055960" cy="3323880"/>
          </a:xfrm>
        </p:grpSpPr>
        <p:pic>
          <p:nvPicPr>
            <p:cNvPr id="300" name="Robert%20de%20Baudricourt" descr=""/>
            <p:cNvPicPr/>
            <p:nvPr/>
          </p:nvPicPr>
          <p:blipFill>
            <a:blip r:embed="rId10"/>
            <a:stretch/>
          </p:blipFill>
          <p:spPr>
            <a:xfrm>
              <a:off x="6324480" y="914400"/>
              <a:ext cx="205596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6705720" y="36576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Robert de Baudricou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581280" y="838080"/>
            <a:ext cx="2286000" cy="3156840"/>
            <a:chOff x="3581280" y="838080"/>
            <a:chExt cx="2286000" cy="3156840"/>
          </a:xfrm>
        </p:grpSpPr>
        <p:pic>
          <p:nvPicPr>
            <p:cNvPr id="303" name="st%20cathering" descr=""/>
            <p:cNvPicPr/>
            <p:nvPr/>
          </p:nvPicPr>
          <p:blipFill>
            <a:blip r:embed="rId11"/>
            <a:stretch/>
          </p:blipFill>
          <p:spPr>
            <a:xfrm>
              <a:off x="3581280" y="838080"/>
              <a:ext cx="193680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3962520" y="365760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St. Cather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286000" y="4114800"/>
            <a:ext cx="2514600" cy="2470680"/>
            <a:chOff x="2286000" y="4114800"/>
            <a:chExt cx="2514600" cy="2470680"/>
          </a:xfrm>
        </p:grpSpPr>
        <p:pic>
          <p:nvPicPr>
            <p:cNvPr id="306" name="photo%20not%20available" descr=""/>
            <p:cNvPicPr/>
            <p:nvPr/>
          </p:nvPicPr>
          <p:blipFill>
            <a:blip r:embed="rId12"/>
            <a:stretch/>
          </p:blipFill>
          <p:spPr>
            <a:xfrm>
              <a:off x="2286000" y="4114800"/>
              <a:ext cx="15890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2362320" y="6248160"/>
              <a:ext cx="24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arles de Ponthie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4952880" y="4038480"/>
            <a:ext cx="2286000" cy="2699640"/>
            <a:chOff x="4952880" y="4038480"/>
            <a:chExt cx="2286000" cy="2699640"/>
          </a:xfrm>
        </p:grpSpPr>
        <p:pic>
          <p:nvPicPr>
            <p:cNvPr id="309" name="henry%20Vi" descr=""/>
            <p:cNvPicPr/>
            <p:nvPr/>
          </p:nvPicPr>
          <p:blipFill>
            <a:blip r:embed="rId13"/>
            <a:stretch/>
          </p:blipFill>
          <p:spPr>
            <a:xfrm>
              <a:off x="4952880" y="4038480"/>
              <a:ext cx="1538280" cy="20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029200" y="640080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Henry 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3">
            <a:hlinkClick r:id="rId1" action="ppaction://hlinksldjump"/>
          </p:cNvPr>
          <p:cNvSpPr/>
          <p:nvPr/>
        </p:nvSpPr>
        <p:spPr>
          <a:xfrm>
            <a:off x="160020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4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">
            <a:hlinkClick r:id="rId3" action="ppaction://hlinksldjump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">
            <a:hlinkClick r:id="rId4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16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16" descr="FBmasthead2_1204x83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7">
            <a:hlinkClick r:id="rId6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8">
            <a:hlinkClick r:id="rId7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662940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Pho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joan%20of%20arc" descr=""/>
          <p:cNvPicPr/>
          <p:nvPr/>
        </p:nvPicPr>
        <p:blipFill>
          <a:blip r:embed="rId8"/>
          <a:stretch/>
        </p:blipFill>
        <p:spPr>
          <a:xfrm>
            <a:off x="533520" y="838080"/>
            <a:ext cx="2144520" cy="2743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42840" y="0"/>
            <a:ext cx="9058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JoanOfArc" descr=""/>
          <p:cNvPicPr/>
          <p:nvPr/>
        </p:nvPicPr>
        <p:blipFill>
          <a:blip r:embed="rId9"/>
          <a:stretch/>
        </p:blipFill>
        <p:spPr>
          <a:xfrm>
            <a:off x="3352680" y="838080"/>
            <a:ext cx="2451240" cy="2743200"/>
          </a:xfrm>
          <a:prstGeom prst="rect">
            <a:avLst/>
          </a:prstGeom>
          <a:ln w="0">
            <a:noFill/>
          </a:ln>
        </p:spPr>
      </p:pic>
      <p:pic>
        <p:nvPicPr>
          <p:cNvPr id="324" name="joan%20of%20arc" descr=""/>
          <p:cNvPicPr/>
          <p:nvPr/>
        </p:nvPicPr>
        <p:blipFill>
          <a:blip r:embed="rId10"/>
          <a:stretch/>
        </p:blipFill>
        <p:spPr>
          <a:xfrm>
            <a:off x="6400800" y="762120"/>
            <a:ext cx="2368440" cy="3581280"/>
          </a:xfrm>
          <a:prstGeom prst="rect">
            <a:avLst/>
          </a:prstGeom>
          <a:ln w="0">
            <a:noFill/>
          </a:ln>
        </p:spPr>
      </p:pic>
      <p:pic>
        <p:nvPicPr>
          <p:cNvPr id="325" name="st%20joan%20of%20arc" descr=""/>
          <p:cNvPicPr/>
          <p:nvPr/>
        </p:nvPicPr>
        <p:blipFill>
          <a:blip r:embed="rId11"/>
          <a:stretch/>
        </p:blipFill>
        <p:spPr>
          <a:xfrm>
            <a:off x="609480" y="3886200"/>
            <a:ext cx="1824120" cy="2438280"/>
          </a:xfrm>
          <a:prstGeom prst="rect">
            <a:avLst/>
          </a:prstGeom>
          <a:ln w="0">
            <a:noFill/>
          </a:ln>
        </p:spPr>
      </p:pic>
      <p:pic>
        <p:nvPicPr>
          <p:cNvPr id="326" name="joan%20of%20arc%20on%20horse" descr=""/>
          <p:cNvPicPr/>
          <p:nvPr/>
        </p:nvPicPr>
        <p:blipFill>
          <a:blip r:embed="rId12"/>
          <a:stretch/>
        </p:blipFill>
        <p:spPr>
          <a:xfrm>
            <a:off x="3429000" y="3809880"/>
            <a:ext cx="2087640" cy="2610000"/>
          </a:xfrm>
          <a:prstGeom prst="rect">
            <a:avLst/>
          </a:prstGeom>
          <a:ln w="0">
            <a:noFill/>
          </a:ln>
        </p:spPr>
      </p:pic>
      <p:pic>
        <p:nvPicPr>
          <p:cNvPr id="327" name="joannn%20of%20arc" descr=""/>
          <p:cNvPicPr/>
          <p:nvPr/>
        </p:nvPicPr>
        <p:blipFill>
          <a:blip r:embed="rId13"/>
          <a:stretch/>
        </p:blipFill>
        <p:spPr>
          <a:xfrm>
            <a:off x="6019920" y="4572000"/>
            <a:ext cx="2887560" cy="2019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9:29:44Z</dcterms:created>
  <dc:creator>A. User</dc:creator>
  <dc:description/>
  <dc:language>en-US</dc:language>
  <cp:lastModifiedBy>A. User</cp:lastModifiedBy>
  <dcterms:modified xsi:type="dcterms:W3CDTF">2010-04-13T13:05:34Z</dcterms:modified>
  <cp:revision>62</cp:revision>
  <dc:subject/>
  <dc:title>PowerPoint Presentation</dc:title>
</cp:coreProperties>
</file>